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354B-9C8A-42A9-94D0-A267918F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91F5-E018-4FCF-A7A9-C5BA36F8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8C65-36E2-48A3-BFEA-6EFF2351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08C1-F80B-4ACA-A7F1-DB9D88AE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347E-552A-4934-8F50-BD03EE28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C96D-7F38-41C1-837E-671B2874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C861-33B2-4930-BD2E-9F140630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1745-BAF3-4E28-AB82-B5A079D7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CA79-83E6-48D9-AA49-1C1382CB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64D3-2CE9-4EA6-8553-EF901F74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9B91-5377-4459-B8B8-800755C9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D2E8-9994-47B4-B08B-7B0DAE18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EC0D-EC34-45CC-A793-DFD5FB88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53C6-71FF-45E4-B301-7E3998FA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4497-96CA-448E-9482-30CDE87E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B4B6-F772-4C80-BEEB-33C086C0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4BD2-467B-420A-8212-6201D283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82AC4-9CC7-4C99-9CAA-19FC7AC2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7FC06-CB60-45C7-B73F-9070680A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CFDE5-3457-4940-973C-EEB71DBD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2B364-DBE8-443B-9CD3-702BBCAC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3D742-BAC9-4FF7-A965-4964319D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7972-81AE-4F4F-9969-B90FD997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92C23-AAA3-446E-A8B2-7ED6B2AE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61724-F7B9-45BB-9608-16C13849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959B5-4AC7-4E85-8601-8598C2A5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35E40-EE7B-443C-875C-0F1D38B5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94C41-C1DA-4F83-9C02-628BBF3D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F867B-C8AA-43BF-A0C2-FD114DDDB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FADFD-0E4E-4ABE-8EBE-9C582274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8903-C017-4623-B61D-2563492C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2221-2FF0-46D2-93DB-9EEDBE18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ABF1-52DE-42E8-819A-9611A344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DAE3-D9A8-459E-A198-FEBE14D0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B064-CF95-47F5-AA80-097C1B49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C6BF-2A6D-4A7C-A6F2-EC31C82E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2DB4-ECD6-4CD7-B495-1CA5800C5C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E125-F2D7-488E-9330-F376E5816F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427E-EEFE-4191-A892-007EA4EDF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rchives.gov/exhibits/featured_documents/emancipation_proclamation/images/emancipation_0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en.wikipedia.org/wiki/File:JBell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en.wikipedia.org/wiki/File:JBell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en.wikipedia.org/wiki/File:JBell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en.wikipedia.org/wiki/File:JBell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Times New Roman"/>
              </a:rPr>
              <a:t>Abraham Lincoln:</a:t>
            </a:r>
            <a:br>
              <a:rPr sz="5600"/>
            </a:br>
            <a:r>
              <a:rPr b="0" lang="en-US" sz="5600" spc="-1" strike="noStrike">
                <a:solidFill>
                  <a:srgbClr val="ffffff"/>
                </a:solidFill>
                <a:latin typeface="Times New Roman"/>
              </a:rPr>
              <a:t>The 16</a:t>
            </a:r>
            <a:r>
              <a:rPr b="0" lang="en-US" sz="5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5600" spc="-1" strike="noStrike">
                <a:solidFill>
                  <a:srgbClr val="ffffff"/>
                </a:solidFill>
                <a:latin typeface="Times New Roman"/>
              </a:rPr>
              <a:t> President of the United States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ared Polloc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 #2 &amp; 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ank three decisions of Lincoln and explain why you ranked the way you di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phen A. Dougl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arty: Northern Democra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me State: Illinoi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unning Mate: Herschel Johns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orn: April 23, 1813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arents: Stephen Arnold Douglas &amp; Sarah Fisk Dougla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ther Jobs: Representative &amp; Senator of Illinoi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7732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ding Slavery, A Goal of the W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braham Lincoln was an abolitionist, but he felt that it was unconstitutional to end slaver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ut, he declared ending slavery would become a goal of the wa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felt it was a tactic to undermine the Confederates strength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s decision inspired many African-Americans to fight for the Un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mancipation Proclamatio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sident Lincoln issued the Emancipation Proclamation on August, 1862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Proclamation stated that all slaves were to be freed, including in the south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owever, the south did not consider themselves a part of the U.S, so none of the southern slaves were fre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Proclamation also allowed African-Americans to fight for the Un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Emancipation Proclamation, page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533520"/>
            <a:ext cx="34970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3520" y="473040"/>
            <a:ext cx="8153280" cy="53942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Lincoln quote, signature and photo"/>
          <p:cNvPicPr/>
          <p:nvPr/>
        </p:nvPicPr>
        <p:blipFill>
          <a:blip r:embed="rId2"/>
          <a:stretch/>
        </p:blipFill>
        <p:spPr>
          <a:xfrm>
            <a:off x="1371600" y="1295280"/>
            <a:ext cx="64674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constr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 December 1863 Lincoln proposed the Ten-Percent Pla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t allowed southern states to make their own laws only if 10% of southerners from each state swore an oath of loyalty to the U.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publicans feared that the plan would allow slaver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publicans pushed the Wade-Davis Bill, which was not as lenient to the south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constructio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Wade-Davis Bill would require the majority of citizens in each southern state to declare loyalty to the U.S, just like the Ten-Percent Pl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rmer Confederate soldiers no longer allowed to vote, or hold office in the governmen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bill was vetoed by Lincol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iteria/My Ans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h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rving The Un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ive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p win the w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Ending slavery becoming a goal of the war, it was ethical, effective, helped win the war, and had a positive re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Reconstruction, it was ethical, helped preserve the union, and had a positive re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Emancipation Proclamation, although the ethics were great, it was not effec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y the end of the presentation, the student should be able to do the following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  Compare Abraham Lincoln to one of the other candidates in the ele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  Rank three of his decisions from best to wors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.  Explain why you ranked the decisions the way you di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2181240" cy="282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2631960" cy="370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19280" y="1981080"/>
            <a:ext cx="2081160" cy="2914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John Bell (Tennessee politician)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66000" y="2133720"/>
            <a:ext cx="2193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17000" y="11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braham Lincol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arty: Republica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ome State: Illinoi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unning Mate: Hannibal Hamlin (1861-65)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orn: February 12, 1809 in a one room log cabi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arents: Thomas Lincoln &amp; Nancy Hanks Lincoln, both were uneducated farm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ther Jobs: lawyer ,military service and a Representative of Illinoi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2181240" cy="2824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2631960" cy="370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719280" y="1981080"/>
            <a:ext cx="2081160" cy="2914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John Bell (Tennessee politician)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66000" y="2133720"/>
            <a:ext cx="2193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17000" y="11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hn C. Breckinrid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arty: Southern Democr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ome State: Kentuck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unning Mate: Joseph Lan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orn: January 16, 1821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arents: Joseph Cabell Breckinridge &amp; Mary Clay Smith Breckinridg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ther Jobs: lawyer, military service, State Representative, Senato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ducation: Centre College, College of New Jersey (Now Princeton University) and Transylvania Universit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2181240" cy="2824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2631960" cy="370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719280" y="1981080"/>
            <a:ext cx="2081160" cy="2914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John Bell (Tennessee politician)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66000" y="2133720"/>
            <a:ext cx="2193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2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hn Be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arty: Constitutional Un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me State: Tennesse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unning Mate: Edward Everet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orn: February 15, 1797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arents: Samuel Bell &amp; Margaret Bell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ther Jobs: Representative &amp; Senator of Tennesse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ucation: Cumberland Colle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2631960" cy="3705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19280" y="1981080"/>
            <a:ext cx="2081160" cy="2914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John Bell (Tennessee politician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66000" y="2133720"/>
            <a:ext cx="2193840" cy="2743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124080" y="0"/>
            <a:ext cx="218124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17000" y="11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22:20:36Z</dcterms:created>
  <dc:creator>Frank</dc:creator>
  <dc:description/>
  <dc:language>en-US</dc:language>
  <cp:lastModifiedBy>Frank</cp:lastModifiedBy>
  <dcterms:modified xsi:type="dcterms:W3CDTF">2009-04-27T23:34:41Z</dcterms:modified>
  <cp:revision>9</cp:revision>
  <dc:subject/>
  <dc:title>Abraham Lincoln: The 16th President of the United States</dc:title>
</cp:coreProperties>
</file>